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B1B-96FA-4D54-B615-CEA8C8ED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50C-59A4-4BDB-9DC9-CB68D9F5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D8A-EF0A-4329-8F52-6E940B72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547-ADA0-48BC-AA3E-15518C2F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EA6-E09B-434F-A89B-088AEC36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679-F60A-4B6C-BD70-3CDEA783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5D2-F352-4A1A-87F7-1490E958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D6E-9B85-4ABD-A6F9-F48F27E5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9E4-133E-4BD5-ADE2-DEC81084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147-CF30-47F1-92D5-201AFFA4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539-FA68-45C4-82FE-CEE6FC4C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03B-D05B-435B-B25C-96D97C50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3086640" y="3086640"/>
            <a:ext cx="6858000" cy="68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41720" y="5805360"/>
            <a:ext cx="65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95280" y="5516280"/>
            <a:ext cx="4321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39960" indent="0"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60" indent="-39960">
              <a:spcAft>
                <a:spcPts val="437"/>
              </a:spcAft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9960" indent="-39960">
              <a:spcAft>
                <a:spcPts val="437"/>
              </a:spcAft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60" indent="-39960">
              <a:spcAft>
                <a:spcPts val="437"/>
              </a:spcAft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9960" indent="-39960">
              <a:spcAft>
                <a:spcPts val="437"/>
              </a:spcAft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65360"/>
            <a:ext cx="9144000" cy="11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95640" y="34286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4072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5118" t="0" r="0" b="0"/>
          <a:stretch/>
        </p:blipFill>
        <p:spPr>
          <a:xfrm>
            <a:off x="0" y="0"/>
            <a:ext cx="2133720" cy="16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3520"/>
            <a:ext cx="1333440" cy="632448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28040" y="6524640"/>
            <a:ext cx="615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52BB-FFC1-4ECC-B725-B6002DF0874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5628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3440" y="0"/>
            <a:ext cx="7810560" cy="102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5123" t="0" r="0" b="0"/>
          <a:stretch/>
        </p:blipFill>
        <p:spPr>
          <a:xfrm>
            <a:off x="0" y="0"/>
            <a:ext cx="1332000" cy="102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16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MG HR, Mch G, P. Gschwend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2B81-B282-4BA8-96A8-796C58C9BCE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0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7478280" y="14144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42b"/>
                </a:solidFill>
                <a:latin typeface="Minion"/>
                <a:ea typeface="文鼎中黑"/>
              </a:rPr>
              <a:t>Let’s enterprise again! Go!Go!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002040"/>
            <a:ext cx="1803240" cy="1684440"/>
          </a:xfrm>
          <a:prstGeom prst="ellipse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92160"/>
            <a:ext cx="8137440" cy="6426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: The LQA is planned as a part of the feedback-tools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3070080"/>
            <a:ext cx="1619280" cy="1366920"/>
          </a:xfrm>
          <a:prstGeom prst="rightArrow">
            <a:avLst>
              <a:gd name="adj1" fmla="val 50000"/>
              <a:gd name="adj2" fmla="val 29615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eer-Feed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(plan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4797360"/>
            <a:ext cx="1366560" cy="1440000"/>
          </a:xfrm>
          <a:prstGeom prst="upArrow">
            <a:avLst>
              <a:gd name="adj1" fmla="val 50000"/>
              <a:gd name="adj2" fmla="val 26344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PF </a:t>
            </a:r>
            <a:br>
              <a:rPr sz="18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(Leadership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Performanc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Feedback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1440" y="1413000"/>
            <a:ext cx="1366920" cy="1439640"/>
          </a:xfrm>
          <a:prstGeom prst="downArrow">
            <a:avLst>
              <a:gd name="adj1" fmla="val 50000"/>
              <a:gd name="adj2" fmla="val 2633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EF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Q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(pil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0320" y="337356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Pers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who receiv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3068640"/>
            <a:ext cx="1296720" cy="1152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99320" y="3324240"/>
            <a:ext cx="787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3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(not as a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 stand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81000"/>
            <a:ext cx="8137440" cy="258588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Evaluation of results, capabilities and suitability 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Preparation of managers/employees for EFA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Survey of the department‘s stren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 of individual Action Plans to foster the individual development and to strenghthen the department‘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573360"/>
            <a:ext cx="8137440" cy="7855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Target-gro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/employees until 2 levels below Head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665600"/>
            <a:ext cx="8137440" cy="10598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ssessment about results, capabilities and suitability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2668680"/>
            <a:ext cx="8137440" cy="120276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Yearly assessment (based on SLF – pending further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 assess their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137440" cy="18943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ata on Job-Person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ction plans for personal development together with personal HR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(e.g. Coaching, Qualification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980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44360" y="4624560"/>
            <a:ext cx="14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valuation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MG PHE 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" y="4627440"/>
            <a:ext cx="160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irst, volun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 March 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7480" y="482616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edback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 man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42760" y="4675320"/>
            <a:ext cx="20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mprovement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max.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74080" y="4675320"/>
            <a:ext cx="171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pe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of Assess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6 months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" y="40464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00cc"/>
                </a:solidFill>
                <a:latin typeface="Minion"/>
              </a:rPr>
              <a:t>Pilot at BMG PHE RD –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15979" r="0" b="0"/>
          <a:stretch/>
        </p:blipFill>
        <p:spPr>
          <a:xfrm>
            <a:off x="468360" y="1978200"/>
            <a:ext cx="7591320" cy="433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998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tegories financials, employees, customer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6527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1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466560" y="1698480"/>
            <a:ext cx="7490160" cy="4683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8360" y="711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2924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8:43:04Z</dcterms:created>
  <dc:creator>knectahz</dc:creator>
  <dc:description/>
  <dc:language>en-US</dc:language>
  <cp:lastModifiedBy>Siegfried Bocionek</cp:lastModifiedBy>
  <dcterms:modified xsi:type="dcterms:W3CDTF">2006-03-13T12:44:40Z</dcterms:modified>
  <cp:revision>10</cp:revision>
  <dc:subject/>
  <dc:title>Agenda</dc:title>
</cp:coreProperties>
</file>